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8E0-A7F5-4DBA-BEC6-C311D92F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04A-6536-4E82-A6B3-9C3FAF01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F92-41B0-4898-B370-7161228E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69B-F37A-4558-AF50-1FCC5C96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9B3-AEB7-4812-8D85-9792CC1B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AF9-2486-4C9E-97FB-3A595816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416-DCB5-4009-9EF2-DC448773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DAB-662B-423C-88F9-EB99D8D5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695-B358-4FFA-8D3B-CBB40945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8A3-7CC3-42B4-8324-664CA20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A50-6A81-492A-8288-8B39C0E7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EA4-AC61-45BC-8D76-E9F53F6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08F4A-62AD-463A-98CD-E99043F90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3480"/>
            <a:ext cx="9779040" cy="75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od and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The climate of  feeling in a literary work. The choice of setting, objects, details, images, and words all contribute towards creating a specific mood. For example, an author may create a mood of mystery around a character or setting but may treat that character or setting in an ironic, serious, or humorous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author’s attitude, stated or implied, toward a subject. Some possible attitudes are pessimism, optimism, earnestness, seriousness, bitterness, humorous, and joyful. An author’s tone can be revealed through choice of words and de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91540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ily Dic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Book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frigate like a b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us lands away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 any coursers like a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prancing poe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raverse may the poorest t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oppress of toll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frugal is the chari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bears a human so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ONE and MOOD of this po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y are establis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"/>
            <a:ext cx="1008072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lett Burg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urple C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eflections on a Mythic Beast Who's Quite Remarkable, at Least.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EVER saw a Purple Cow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ever hope to See One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 can Tell you, Anyhow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d rather See than Be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ONE and MOOD of this po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y are establis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89154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l Sand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g com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little cat fee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its look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 harbor and c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silent haun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hen moves on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ONE and MOOD of this po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y are establis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57200"/>
            <a:ext cx="1008072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of the following affect MEANING in writing. You must both identify and expl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erary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hropomorph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ry/Sensory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hyme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1:58:00Z</dcterms:created>
  <dc:creator>Nick Chanese</dc:creator>
  <dc:description/>
  <dc:language>en-US</dc:language>
  <cp:lastModifiedBy/>
  <cp:revision>1</cp:revision>
  <dc:subject/>
  <dc:title/>
</cp:coreProperties>
</file>